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D8EA-AD8D-48DF-8FF2-4A5C0F1DA8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C816-FC77-43B0-B1CA-B1CE5D8CC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10C9-FD3B-4106-9A07-3439AA1FD2F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1F7A-8392-4E77-9847-959B5678228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3FAB-D1EE-42E0-95EB-7F9083821FA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1885-6A44-4A83-A6C9-28457571E5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A068-1EC3-4F12-98AB-6692AF7E68F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AF9EA-1412-4A11-BC5C-F3EDE1E10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6A3DD-285B-4C48-B03A-10169BB1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C551DD-3F14-4122-BE3F-41A1707F7A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BDD227-D5D2-4563-9156-2F67B8BFB7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E63B09-DAED-48AB-876A-491C124F56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B80901-05D8-48C6-B95A-32DAEF85E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644DD-AD03-4AEA-8D44-C0A97055A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74D58-04D3-4736-8F6A-701F06A53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F796E2-EFB7-4E0E-B9F7-E9328E3636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11724C-5D61-4BA0-9179-46F12A9258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BE3745-D8A4-4CEF-B685-C8CA0A54A3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5E6D7-3360-4F27-BB13-506D856F6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BAD75-096F-4E5A-B86D-A8923248F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23D9E-98C0-4AE2-9BFC-A1F6A1CE3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085DE-F4EE-4CA2-ACA6-FFEB2C273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CAEAB-4775-4F75-AD2F-3A425082A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6D601-F70E-465C-A634-AEC05CAD7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919E4-2C2D-4467-BBA9-9E079A504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6254F-9851-4847-89B2-8D3A80EA4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42D22-55BF-4AC9-AB2B-60D3DDF36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E110B-1573-4673-A35A-E86B909B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020BC-2C8E-4696-A230-78EB85EB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7DC1E-0D7F-40F3-93DE-778290C01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86DC0-4670-44A3-9810-E207D363B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E46E2-6A29-41F6-89D4-EA43BEC02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A3820-F96D-49F9-8B7A-066F7060C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025505-6394-4969-956A-973A8C35F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ECC65-4239-4476-91BE-B606ED757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EE970-6C0A-412D-8265-0A712FF47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BC5CC-A9DE-40C6-9DD9-876EDFB1A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41DBC-3979-4214-8A47-F18B37F24B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D9E8-D50E-4E86-9D68-303BDCF17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29A04-B82F-44EB-BE70-A2A1A6015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7CE82-140D-4A05-8DF5-B5E77FA08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AB63C-7F77-4785-B631-EADE83E50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A02C6-20AF-41AA-9F93-6A10DAC83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4AB1E-E8EB-4AE8-A81B-E42615686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51158-75A5-4C7A-B3DF-289FA160A4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C85226-05F3-471E-BE39-953A65E77A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59D2D1-07AD-4C13-A122-398F275F91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E9999-7D82-4AFD-97E3-06D901E49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C6C289-B5CB-4504-A3A0-912A2EA0E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5F064-C0EF-4E27-B559-680F52553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7A4CF-5FA4-41BD-B083-DA4C615D8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B6B70-F042-42B5-80D2-8F6A41CD6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303A5-6C1D-431A-95E1-5C5BD9B2C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8ED72-467C-41EE-8726-8FB0B2F56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EDE61-ECA3-4822-ADBD-8009D4E4D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F5F8F-EEC6-4031-ABCD-8820A1333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1F08D-4C2E-4A2F-9018-834B9F41C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D31C05-19EB-4252-8D9A-43689C0D2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F0BA1-1A06-4E51-A33E-F7559E2A4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9A9419-D788-47DF-AF12-E9EE636FFF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34B9-1CBB-4352-B2C8-CC3BF0114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D84C5-176E-4F29-A1A6-6EC02C299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60FFC-5E3A-4CD1-B658-580C8B96F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5E30E6-2009-4D93-80D9-3CBC5A18B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85F9A-539B-499F-8BED-C0344E06C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E430B7-0ED9-499E-93EB-43FEFB64B1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B6627-A3B8-40A6-B7B7-4EEBDB17A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40911-59B6-4AD1-8134-315935184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3ED97-BA6E-40D8-9605-5FFB33C1D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40F9E-2E9A-43CB-8E65-C0FEF09C9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C611B7-9FAC-4299-993D-64207C754C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A0160-0CBC-4EA1-82C1-C92D06E5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D4075-50A5-4863-A549-FB18FC8274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325837-F957-448A-9C06-BC6426B81A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F18C7-6CCA-46A9-B4F3-149CB5B63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C43E34-7A69-469F-B7D9-73E96E95F7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84095-5784-4626-9A40-D60F9709EF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0C7E9-1999-458A-844E-FEB28CB142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8D4017-4D48-4ED1-BCBC-B48C84E0FC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D0AA4-4A9A-482A-8336-86AF28A3C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9292D3-A677-4FC6-8B52-F1B59371A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C557C-DD57-402C-9ABD-6904300C9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0462-5964-4F76-9A10-3508B8D1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FE9DA-38C2-4A7D-857D-8BBC40E30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042561-E4B6-4DA1-BB15-CF6D2F37CA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BDFFFC-3FA5-49EB-A158-887182C498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1DFE04-882E-4129-8571-388FD9ACB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45EDB7-FC08-4C32-A4B3-70EAC0BDD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2A07E6-2E7E-4344-8812-9448195FF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0C67E9-8020-4776-B4FB-35723080A8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D2DF4-E3A9-4282-B1CD-237B1BBCE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13DF2-CCDE-4741-9F4F-AFF25C7F1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D574E-B849-49A3-B789-4877037A3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AA73-B6F0-4A4A-82FD-4F7B7B462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B135A-7A40-4782-8A33-A76B409B4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150F0-9F6B-4869-9EF7-2236FBFE5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A0786-7DEE-4336-91AB-84B5B74071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19C376-28D7-4B2C-9AA2-2D4219FC5D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4DD331-0260-4E0C-9DAC-4EF78BC01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4292C4-05F0-4CB6-BFB5-890803B83E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2A3B85-D4D8-499C-B3D5-03E5C68C18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0E25CA-1C41-4EE2-8DE1-E2FA4A2DA1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3F801-A9F3-4644-8C5E-101317478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DB4A7-B03D-4CDF-AE8F-CB4647B16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BB3B-2926-49E5-A61E-783DA56E4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4B4469-61A0-4AAA-8584-A33B328218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7E29BE-958A-4005-9F6C-303C24CCC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8FAD6-4B9E-4E39-83EE-942237CE8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4FCD2-C8A1-4791-A955-B78AE39B46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D297A-6B4B-41AC-A3A1-0263F8F15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D05516-CBAA-4A8D-8468-B64EB76EF0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E47073-F9FD-4F44-8D89-7C803203FE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A0969D-317E-4FE5-B5FF-30AE2B9F85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104E57-5BD4-448D-9453-64AB7EDCF9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926A0-D921-447E-B1B1-25FA058E48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D1BC-A0A4-46C7-A204-A7563543BC0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0E1D-F2EB-4D3D-97B0-350BAC5B7F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3E79-8EB5-4407-AA9C-E4FF8BEEBB8A}"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CF82-A72B-4560-973F-00990CD03FC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F3BA-09FA-425A-B552-44C7DBB9A66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AB67-45D9-4B9E-BA36-ACE1984B7F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9C24-2D0C-41DE-BFF4-1544A9AC6470}"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DF68-A9C9-49DF-812E-E79E03B212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DDC0-10C1-4BBF-946D-14A51AADA29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97AF-8F82-42BE-A3EB-1B8D3B5700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1394-20D4-457F-A50E-F8D914CF8A8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50E2-3254-4476-BC90-88FBEA0E56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D223-76F1-425F-B156-625450BBB33A}"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9F1A-A608-40AF-BE1D-45F1E82D8F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A464-362D-436C-BF3C-C151EC1C283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00DA-5F1D-4ED3-9C67-478180AD0A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F180-9568-4162-B5B6-6BC0F9E074C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6154-95FF-4FAD-AC5B-B92AF9DE9D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13077678-8596-4433-8568-F69B3B22C417}" type="slidenum">
              <a:t>1</a:t>
            </a:fld>
          </a:p>
        </p:txBody>
      </p:sp>
      <p:sp>
        <p:nvSpPr>
          <p:cNvPr id="5" name="PlaceHolder 4"/>
          <p:cNvSpPr>
            <a:spLocks noGrp="1"/>
          </p:cNvSpPr>
          <p:nvPr>
            <p:ph type="dt" idx="4"/>
          </p:nvPr>
        </p:nvSpPr>
        <p:spPr/>
        <p:txBody>
          <a:bodyPr/>
          <a:p>
            <a:fld id="{F46CBE1A-76CF-4C6D-8691-67B926FC7995}"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A4AE-F733-48B3-8D2C-21EB8388D653}"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6ABE-E56F-490F-9208-5A26CC28D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B19844F-6671-42C2-9F9A-6CF2D6F51E37}" type="slidenum">
              <a:t>10</a:t>
            </a:fld>
          </a:p>
        </p:txBody>
      </p:sp>
      <p:sp>
        <p:nvSpPr>
          <p:cNvPr id="5" name="PlaceHolder 4"/>
          <p:cNvSpPr>
            <a:spLocks noGrp="1"/>
          </p:cNvSpPr>
          <p:nvPr>
            <p:ph type="dt" idx="1"/>
          </p:nvPr>
        </p:nvSpPr>
        <p:spPr/>
        <p:txBody>
          <a:bodyPr/>
          <a:p>
            <a:fld id="{82B0BAFF-413F-450A-BBF2-BD153C05C3F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A54CBCE4-B1D1-41E6-BFDA-09B37A498A77}" type="slidenum">
              <a:t>11</a:t>
            </a:fld>
          </a:p>
        </p:txBody>
      </p:sp>
      <p:sp>
        <p:nvSpPr>
          <p:cNvPr id="3" name="PlaceHolder 2"/>
          <p:cNvSpPr>
            <a:spLocks noGrp="1"/>
          </p:cNvSpPr>
          <p:nvPr>
            <p:ph type="dt" idx="1"/>
          </p:nvPr>
        </p:nvSpPr>
        <p:spPr/>
        <p:txBody>
          <a:bodyPr/>
          <a:p>
            <a:fld id="{3E2A8611-1DEB-4670-BAA2-FAC69BD3A56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2FCFB1-A9F8-4CA7-93CA-F7CF5BDCB180}" type="slidenum">
              <a:t>12</a:t>
            </a:fld>
          </a:p>
        </p:txBody>
      </p:sp>
      <p:sp>
        <p:nvSpPr>
          <p:cNvPr id="4" name="PlaceHolder 3"/>
          <p:cNvSpPr>
            <a:spLocks noGrp="1"/>
          </p:cNvSpPr>
          <p:nvPr>
            <p:ph type="dt" idx="1"/>
          </p:nvPr>
        </p:nvSpPr>
        <p:spPr/>
        <p:txBody>
          <a:bodyPr/>
          <a:p>
            <a:fld id="{E5A00C9B-E077-4626-9B14-EC6C9D1F3C6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DDA6F29C-6538-4751-A4A7-1A5E4367C4BE}" type="slidenum">
              <a:t>13</a:t>
            </a:fld>
          </a:p>
        </p:txBody>
      </p:sp>
      <p:sp>
        <p:nvSpPr>
          <p:cNvPr id="4" name="PlaceHolder 3"/>
          <p:cNvSpPr>
            <a:spLocks noGrp="1"/>
          </p:cNvSpPr>
          <p:nvPr>
            <p:ph type="dt" idx="1"/>
          </p:nvPr>
        </p:nvSpPr>
        <p:spPr/>
        <p:txBody>
          <a:bodyPr/>
          <a:p>
            <a:fld id="{6E369F6E-600A-4882-9E74-1D5CE72156A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3F0BF217-6B5A-4C33-B893-EE53390EC314}" type="slidenum">
              <a:t>14</a:t>
            </a:fld>
          </a:p>
        </p:txBody>
      </p:sp>
      <p:sp>
        <p:nvSpPr>
          <p:cNvPr id="4" name="PlaceHolder 3"/>
          <p:cNvSpPr>
            <a:spLocks noGrp="1"/>
          </p:cNvSpPr>
          <p:nvPr>
            <p:ph type="dt" idx="1"/>
          </p:nvPr>
        </p:nvSpPr>
        <p:spPr/>
        <p:txBody>
          <a:bodyPr/>
          <a:p>
            <a:fld id="{834890C0-C5ED-4E42-A499-C5645649AE0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8BCF08AE-CB62-4B0D-91C6-CEF426E283AE}" type="slidenum">
              <a:t>15</a:t>
            </a:fld>
          </a:p>
        </p:txBody>
      </p:sp>
      <p:sp>
        <p:nvSpPr>
          <p:cNvPr id="3" name="PlaceHolder 2"/>
          <p:cNvSpPr>
            <a:spLocks noGrp="1"/>
          </p:cNvSpPr>
          <p:nvPr>
            <p:ph type="dt" idx="1"/>
          </p:nvPr>
        </p:nvSpPr>
        <p:spPr/>
        <p:txBody>
          <a:bodyPr/>
          <a:p>
            <a:fld id="{7E426DB3-79AB-4EF1-823B-BDF9FFB72A2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477B9F3-824A-4647-A99A-97EFC689F7E5}" type="slidenum">
              <a:t>16</a:t>
            </a:fld>
          </a:p>
        </p:txBody>
      </p:sp>
      <p:sp>
        <p:nvSpPr>
          <p:cNvPr id="4" name="PlaceHolder 3"/>
          <p:cNvSpPr>
            <a:spLocks noGrp="1"/>
          </p:cNvSpPr>
          <p:nvPr>
            <p:ph type="dt" idx="1"/>
          </p:nvPr>
        </p:nvSpPr>
        <p:spPr/>
        <p:txBody>
          <a:bodyPr/>
          <a:p>
            <a:fld id="{15E52739-B8F7-40BC-B5B6-A21CD354FF3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01AAD208-9E62-4F9B-9DCE-AEA6BA30ABED}" type="slidenum">
              <a:t>17</a:t>
            </a:fld>
          </a:p>
        </p:txBody>
      </p:sp>
      <p:sp>
        <p:nvSpPr>
          <p:cNvPr id="4" name="PlaceHolder 3"/>
          <p:cNvSpPr>
            <a:spLocks noGrp="1"/>
          </p:cNvSpPr>
          <p:nvPr>
            <p:ph type="dt" idx="4"/>
          </p:nvPr>
        </p:nvSpPr>
        <p:spPr/>
        <p:txBody>
          <a:bodyPr/>
          <a:p>
            <a:fld id="{0EAA5C55-C343-4518-9FFA-E0979C7E894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DBFD2D-C0EB-4F71-9124-3F5D9ABE6654}" type="slidenum">
              <a:t>18</a:t>
            </a:fld>
          </a:p>
        </p:txBody>
      </p:sp>
      <p:sp>
        <p:nvSpPr>
          <p:cNvPr id="5" name="PlaceHolder 4"/>
          <p:cNvSpPr>
            <a:spLocks noGrp="1"/>
          </p:cNvSpPr>
          <p:nvPr>
            <p:ph type="dt" idx="1"/>
          </p:nvPr>
        </p:nvSpPr>
        <p:spPr/>
        <p:txBody>
          <a:bodyPr/>
          <a:p>
            <a:fld id="{DB65B3F5-0941-439E-96C8-8ACB8BAD551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27AC57-29F3-4FAB-BF46-82B0D8739F57}" type="slidenum">
              <a:t>19</a:t>
            </a:fld>
          </a:p>
        </p:txBody>
      </p:sp>
      <p:sp>
        <p:nvSpPr>
          <p:cNvPr id="3" name="PlaceHolder 2"/>
          <p:cNvSpPr>
            <a:spLocks noGrp="1"/>
          </p:cNvSpPr>
          <p:nvPr>
            <p:ph type="dt" idx="1"/>
          </p:nvPr>
        </p:nvSpPr>
        <p:spPr/>
        <p:txBody>
          <a:bodyPr/>
          <a:p>
            <a:fld id="{28205E38-73A4-4510-802F-D9B31DB00FB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815FFBA8-C654-475C-A90A-EF964DC7BB28}" type="slidenum">
              <a:t>2</a:t>
            </a:fld>
          </a:p>
        </p:txBody>
      </p:sp>
      <p:sp>
        <p:nvSpPr>
          <p:cNvPr id="4" name="PlaceHolder 3"/>
          <p:cNvSpPr>
            <a:spLocks noGrp="1"/>
          </p:cNvSpPr>
          <p:nvPr>
            <p:ph type="dt" idx="1"/>
          </p:nvPr>
        </p:nvSpPr>
        <p:spPr/>
        <p:txBody>
          <a:bodyPr/>
          <a:p>
            <a:fld id="{9579E1AB-1FE7-47AA-BDC5-149A13E77BD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FC2E68-6116-4D21-97F0-C74D9D55DD95}" type="slidenum">
              <a:t>20</a:t>
            </a:fld>
          </a:p>
        </p:txBody>
      </p:sp>
      <p:sp>
        <p:nvSpPr>
          <p:cNvPr id="3" name="PlaceHolder 2"/>
          <p:cNvSpPr>
            <a:spLocks noGrp="1"/>
          </p:cNvSpPr>
          <p:nvPr>
            <p:ph type="dt" idx="1"/>
          </p:nvPr>
        </p:nvSpPr>
        <p:spPr/>
        <p:txBody>
          <a:bodyPr/>
          <a:p>
            <a:fld id="{BA38367C-976C-4393-87C7-46E8E60BFC67}"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2C876BC-0DDC-46F5-9DAD-32BEEE10ABA0}" type="slidenum">
              <a:t>21</a:t>
            </a:fld>
          </a:p>
        </p:txBody>
      </p:sp>
      <p:sp>
        <p:nvSpPr>
          <p:cNvPr id="4" name="PlaceHolder 3"/>
          <p:cNvSpPr>
            <a:spLocks noGrp="1"/>
          </p:cNvSpPr>
          <p:nvPr>
            <p:ph type="dt" idx="1"/>
          </p:nvPr>
        </p:nvSpPr>
        <p:spPr/>
        <p:txBody>
          <a:bodyPr/>
          <a:p>
            <a:fld id="{44234230-DF4E-457A-BCA5-201576ED0B16}"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47F2F3-E971-4D7B-BA1E-E69C1908DFA7}" type="slidenum">
              <a:t>22</a:t>
            </a:fld>
          </a:p>
        </p:txBody>
      </p:sp>
      <p:sp>
        <p:nvSpPr>
          <p:cNvPr id="3" name="PlaceHolder 2"/>
          <p:cNvSpPr>
            <a:spLocks noGrp="1"/>
          </p:cNvSpPr>
          <p:nvPr>
            <p:ph type="dt" idx="1"/>
          </p:nvPr>
        </p:nvSpPr>
        <p:spPr/>
        <p:txBody>
          <a:bodyPr/>
          <a:p>
            <a:fld id="{AFADBDB7-B2AF-4221-98AC-BEE932C8E48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CF08CC5-49CE-4F0D-AA84-81FA5D1642ED}" type="slidenum">
              <a:t>23</a:t>
            </a:fld>
          </a:p>
        </p:txBody>
      </p:sp>
      <p:sp>
        <p:nvSpPr>
          <p:cNvPr id="3" name="PlaceHolder 2"/>
          <p:cNvSpPr>
            <a:spLocks noGrp="1"/>
          </p:cNvSpPr>
          <p:nvPr>
            <p:ph type="dt" idx="1"/>
          </p:nvPr>
        </p:nvSpPr>
        <p:spPr/>
        <p:txBody>
          <a:bodyPr/>
          <a:p>
            <a:fld id="{B120112B-ADC5-4223-A521-79743DD3DFE9}"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93F234-D89F-497F-AB26-CA09DF175384}" type="slidenum">
              <a:t>24</a:t>
            </a:fld>
          </a:p>
        </p:txBody>
      </p:sp>
      <p:sp>
        <p:nvSpPr>
          <p:cNvPr id="3" name="PlaceHolder 2"/>
          <p:cNvSpPr>
            <a:spLocks noGrp="1"/>
          </p:cNvSpPr>
          <p:nvPr>
            <p:ph type="dt" idx="1"/>
          </p:nvPr>
        </p:nvSpPr>
        <p:spPr/>
        <p:txBody>
          <a:bodyPr/>
          <a:p>
            <a:fld id="{8BB9584A-6016-4CFE-9B0D-44C6FF40F57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DAC0A2-AD65-4F3B-BA49-C519075D2EEA}" type="slidenum">
              <a:t>25</a:t>
            </a:fld>
          </a:p>
        </p:txBody>
      </p:sp>
      <p:sp>
        <p:nvSpPr>
          <p:cNvPr id="3" name="PlaceHolder 2"/>
          <p:cNvSpPr>
            <a:spLocks noGrp="1"/>
          </p:cNvSpPr>
          <p:nvPr>
            <p:ph type="dt" idx="1"/>
          </p:nvPr>
        </p:nvSpPr>
        <p:spPr/>
        <p:txBody>
          <a:bodyPr/>
          <a:p>
            <a:fld id="{739DDFB7-B874-4EBE-97DA-AF1FB870D8A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0AC502A-968F-4349-8ECB-9E5FEC49F947}" type="slidenum">
              <a:t>26</a:t>
            </a:fld>
          </a:p>
        </p:txBody>
      </p:sp>
      <p:sp>
        <p:nvSpPr>
          <p:cNvPr id="3" name="PlaceHolder 2"/>
          <p:cNvSpPr>
            <a:spLocks noGrp="1"/>
          </p:cNvSpPr>
          <p:nvPr>
            <p:ph type="dt" idx="1"/>
          </p:nvPr>
        </p:nvSpPr>
        <p:spPr/>
        <p:txBody>
          <a:bodyPr/>
          <a:p>
            <a:fld id="{FE8A51E9-1857-479C-8AD8-5FB08E85DDA9}"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319DE2-720E-4FFE-A65D-490029AA480C}" type="slidenum">
              <a:t>27</a:t>
            </a:fld>
          </a:p>
        </p:txBody>
      </p:sp>
      <p:sp>
        <p:nvSpPr>
          <p:cNvPr id="3" name="PlaceHolder 2"/>
          <p:cNvSpPr>
            <a:spLocks noGrp="1"/>
          </p:cNvSpPr>
          <p:nvPr>
            <p:ph type="dt" idx="1"/>
          </p:nvPr>
        </p:nvSpPr>
        <p:spPr/>
        <p:txBody>
          <a:bodyPr/>
          <a:p>
            <a:fld id="{FC7A9089-179B-4D5F-BB6D-3DCF9A7F532E}"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793D-936E-4204-8F98-BF9E1946E014}"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302B421-9A8E-47BC-87BA-3D6E18A8C587}" type="slidenum">
              <a:t>28</a:t>
            </a:fld>
          </a:p>
        </p:txBody>
      </p:sp>
      <p:sp>
        <p:nvSpPr>
          <p:cNvPr id="4" name="PlaceHolder 3"/>
          <p:cNvSpPr>
            <a:spLocks noGrp="1"/>
          </p:cNvSpPr>
          <p:nvPr>
            <p:ph type="dt" idx="4"/>
          </p:nvPr>
        </p:nvSpPr>
        <p:spPr/>
        <p:txBody>
          <a:bodyPr/>
          <a:p>
            <a:fld id="{96F98B36-55EB-44FD-AD38-56B7F3990391}"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3A14C0D1-80A9-4B49-A68A-901564D8FFA3}" type="slidenum">
              <a:t>29</a:t>
            </a:fld>
          </a:p>
        </p:txBody>
      </p:sp>
      <p:sp>
        <p:nvSpPr>
          <p:cNvPr id="5" name="PlaceHolder 4"/>
          <p:cNvSpPr>
            <a:spLocks noGrp="1"/>
          </p:cNvSpPr>
          <p:nvPr>
            <p:ph type="dt" idx="4"/>
          </p:nvPr>
        </p:nvSpPr>
        <p:spPr/>
        <p:txBody>
          <a:bodyPr/>
          <a:p>
            <a:fld id="{30C34741-74FD-48DD-B162-2514685D832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1BD5819D-1535-4E12-8CF0-5E83DDB1FB03}" type="slidenum">
              <a:t>3</a:t>
            </a:fld>
          </a:p>
        </p:txBody>
      </p:sp>
      <p:sp>
        <p:nvSpPr>
          <p:cNvPr id="3" name="PlaceHolder 2"/>
          <p:cNvSpPr>
            <a:spLocks noGrp="1"/>
          </p:cNvSpPr>
          <p:nvPr>
            <p:ph type="dt" idx="1"/>
          </p:nvPr>
        </p:nvSpPr>
        <p:spPr/>
        <p:txBody>
          <a:bodyPr/>
          <a:p>
            <a:fld id="{98A5DAD7-F40A-4DA3-963A-E819CCDC59D6}"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0115B1DF-723C-46CA-8FAD-B877479AB69A}" type="slidenum">
              <a:t>30</a:t>
            </a:fld>
          </a:p>
        </p:txBody>
      </p:sp>
      <p:sp>
        <p:nvSpPr>
          <p:cNvPr id="5" name="PlaceHolder 4"/>
          <p:cNvSpPr>
            <a:spLocks noGrp="1"/>
          </p:cNvSpPr>
          <p:nvPr>
            <p:ph type="dt" idx="4"/>
          </p:nvPr>
        </p:nvSpPr>
        <p:spPr/>
        <p:txBody>
          <a:bodyPr/>
          <a:p>
            <a:fld id="{9FC5301B-559E-42C2-8011-D51B26BD85DF}"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88B5DD10-6483-4353-9BC6-580B08ACDF12}" type="slidenum">
              <a:t>31</a:t>
            </a:fld>
          </a:p>
        </p:txBody>
      </p:sp>
      <p:sp>
        <p:nvSpPr>
          <p:cNvPr id="5" name="PlaceHolder 4"/>
          <p:cNvSpPr>
            <a:spLocks noGrp="1"/>
          </p:cNvSpPr>
          <p:nvPr>
            <p:ph type="dt" idx="4"/>
          </p:nvPr>
        </p:nvSpPr>
        <p:spPr/>
        <p:txBody>
          <a:bodyPr/>
          <a:p>
            <a:fld id="{778918DB-00B4-4456-A3ED-3CAD0F2B017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2A704710-3BD4-4993-BEC1-25C825AB6E22}" type="slidenum">
              <a:t>32</a:t>
            </a:fld>
          </a:p>
        </p:txBody>
      </p:sp>
      <p:sp>
        <p:nvSpPr>
          <p:cNvPr id="5" name="PlaceHolder 4"/>
          <p:cNvSpPr>
            <a:spLocks noGrp="1"/>
          </p:cNvSpPr>
          <p:nvPr>
            <p:ph type="dt" idx="4"/>
          </p:nvPr>
        </p:nvSpPr>
        <p:spPr/>
        <p:txBody>
          <a:bodyPr/>
          <a:p>
            <a:fld id="{6655736C-798D-4593-8BBD-4698BC3008B4}"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E76841BA-226C-48E9-BAF7-A5030E0F81C3}" type="slidenum">
              <a:t>33</a:t>
            </a:fld>
          </a:p>
        </p:txBody>
      </p:sp>
      <p:sp>
        <p:nvSpPr>
          <p:cNvPr id="5" name="PlaceHolder 4"/>
          <p:cNvSpPr>
            <a:spLocks noGrp="1"/>
          </p:cNvSpPr>
          <p:nvPr>
            <p:ph type="dt" idx="4"/>
          </p:nvPr>
        </p:nvSpPr>
        <p:spPr/>
        <p:txBody>
          <a:bodyPr/>
          <a:p>
            <a:fld id="{E101E80A-E135-4EA0-9FC8-6080EE85C902}"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FC2D0BD-16B8-40D6-AE21-03350F560524}" type="slidenum">
              <a:t>34</a:t>
            </a:fld>
          </a:p>
        </p:txBody>
      </p:sp>
      <p:sp>
        <p:nvSpPr>
          <p:cNvPr id="3" name="PlaceHolder 2"/>
          <p:cNvSpPr>
            <a:spLocks noGrp="1"/>
          </p:cNvSpPr>
          <p:nvPr>
            <p:ph type="dt" idx="4"/>
          </p:nvPr>
        </p:nvSpPr>
        <p:spPr/>
        <p:txBody>
          <a:bodyPr/>
          <a:p>
            <a:fld id="{F8179E61-9485-457F-8997-28C06764424F}"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A2CED9B1-E41F-40AE-85FB-1C8202185101}" type="slidenum">
              <a:t>35</a:t>
            </a:fld>
          </a:p>
        </p:txBody>
      </p:sp>
      <p:sp>
        <p:nvSpPr>
          <p:cNvPr id="5" name="PlaceHolder 4"/>
          <p:cNvSpPr>
            <a:spLocks noGrp="1"/>
          </p:cNvSpPr>
          <p:nvPr>
            <p:ph type="dt" idx="4"/>
          </p:nvPr>
        </p:nvSpPr>
        <p:spPr/>
        <p:txBody>
          <a:bodyPr/>
          <a:p>
            <a:fld id="{7A20F35A-0BA1-4AA4-90EF-17FE6B33D7CC}"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F33D4CA9-1443-429F-BE45-03246FAB9D55}" type="slidenum">
              <a:t>36</a:t>
            </a:fld>
          </a:p>
        </p:txBody>
      </p:sp>
      <p:sp>
        <p:nvSpPr>
          <p:cNvPr id="4" name="PlaceHolder 3"/>
          <p:cNvSpPr>
            <a:spLocks noGrp="1"/>
          </p:cNvSpPr>
          <p:nvPr>
            <p:ph type="dt" idx="4"/>
          </p:nvPr>
        </p:nvSpPr>
        <p:spPr/>
        <p:txBody>
          <a:bodyPr/>
          <a:p>
            <a:fld id="{6EA73EB8-F86B-4D54-9AE7-D7E4FF68586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68FFAF8E-3B28-405F-B939-95BC628418C7}" type="slidenum">
              <a:t>37</a:t>
            </a:fld>
          </a:p>
        </p:txBody>
      </p:sp>
      <p:sp>
        <p:nvSpPr>
          <p:cNvPr id="5" name="PlaceHolder 4"/>
          <p:cNvSpPr>
            <a:spLocks noGrp="1"/>
          </p:cNvSpPr>
          <p:nvPr>
            <p:ph type="dt" idx="4"/>
          </p:nvPr>
        </p:nvSpPr>
        <p:spPr/>
        <p:txBody>
          <a:bodyPr/>
          <a:p>
            <a:fld id="{5C2AEB37-E74C-4312-8923-DD97BD8821F5}"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67827F39-A979-4E1F-97DE-B2FE44432DCA}" type="slidenum">
              <a:t>38</a:t>
            </a:fld>
          </a:p>
        </p:txBody>
      </p:sp>
      <p:sp>
        <p:nvSpPr>
          <p:cNvPr id="4" name="PlaceHolder 3"/>
          <p:cNvSpPr>
            <a:spLocks noGrp="1"/>
          </p:cNvSpPr>
          <p:nvPr>
            <p:ph type="dt" idx="4"/>
          </p:nvPr>
        </p:nvSpPr>
        <p:spPr/>
        <p:txBody>
          <a:bodyPr/>
          <a:p>
            <a:fld id="{C803FD3D-9F46-4A64-BDBC-4455C8782DB5}"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76B1EE9-CD9F-4331-A3F3-12A854FB4A7B}" type="slidenum">
              <a:t>39</a:t>
            </a:fld>
          </a:p>
        </p:txBody>
      </p:sp>
      <p:sp>
        <p:nvSpPr>
          <p:cNvPr id="4" name="PlaceHolder 3"/>
          <p:cNvSpPr>
            <a:spLocks noGrp="1"/>
          </p:cNvSpPr>
          <p:nvPr>
            <p:ph type="dt" idx="4"/>
          </p:nvPr>
        </p:nvSpPr>
        <p:spPr/>
        <p:txBody>
          <a:bodyPr/>
          <a:p>
            <a:fld id="{C9B5F873-6214-41D9-ABF5-C45C9BCDBC4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AC4768B7-3A5F-40FA-B8E1-F018AC2092B6}" type="slidenum">
              <a:t>4</a:t>
            </a:fld>
          </a:p>
        </p:txBody>
      </p:sp>
      <p:sp>
        <p:nvSpPr>
          <p:cNvPr id="5" name="PlaceHolder 4"/>
          <p:cNvSpPr>
            <a:spLocks noGrp="1"/>
          </p:cNvSpPr>
          <p:nvPr>
            <p:ph type="dt" idx="1"/>
          </p:nvPr>
        </p:nvSpPr>
        <p:spPr/>
        <p:txBody>
          <a:bodyPr/>
          <a:p>
            <a:fld id="{6F8C7E67-7E3D-485A-A955-588EF713B16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D3F33458-94CB-49A1-83BE-9BB650F62741}" type="slidenum">
              <a:t>40</a:t>
            </a:fld>
          </a:p>
        </p:txBody>
      </p:sp>
      <p:sp>
        <p:nvSpPr>
          <p:cNvPr id="4" name="PlaceHolder 3"/>
          <p:cNvSpPr>
            <a:spLocks noGrp="1"/>
          </p:cNvSpPr>
          <p:nvPr>
            <p:ph type="dt" idx="4"/>
          </p:nvPr>
        </p:nvSpPr>
        <p:spPr/>
        <p:txBody>
          <a:bodyPr/>
          <a:p>
            <a:fld id="{96176062-4ECE-4F97-8E1A-ABB5911F26BE}"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45E32855-413B-429D-B785-F9CFA3E16165}" type="slidenum">
              <a:t>41</a:t>
            </a:fld>
          </a:p>
        </p:txBody>
      </p:sp>
      <p:sp>
        <p:nvSpPr>
          <p:cNvPr id="3" name="PlaceHolder 2"/>
          <p:cNvSpPr>
            <a:spLocks noGrp="1"/>
          </p:cNvSpPr>
          <p:nvPr>
            <p:ph type="dt" idx="4"/>
          </p:nvPr>
        </p:nvSpPr>
        <p:spPr/>
        <p:txBody>
          <a:bodyPr/>
          <a:p>
            <a:fld id="{5F666E5D-A6B5-4D8D-A5AF-D18841E6BB55}"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E506335B-3CB5-4DC8-83CC-EBEFB836E828}" type="slidenum">
              <a:t>42</a:t>
            </a:fld>
          </a:p>
        </p:txBody>
      </p:sp>
      <p:sp>
        <p:nvSpPr>
          <p:cNvPr id="5" name="PlaceHolder 4"/>
          <p:cNvSpPr>
            <a:spLocks noGrp="1"/>
          </p:cNvSpPr>
          <p:nvPr>
            <p:ph type="dt" idx="4"/>
          </p:nvPr>
        </p:nvSpPr>
        <p:spPr/>
        <p:txBody>
          <a:bodyPr/>
          <a:p>
            <a:fld id="{98AC583E-9962-48B0-B928-9B42F9653AF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64173BF1-FB0F-4B7B-8A42-62DFF7DCFEBC}" type="slidenum">
              <a:t>43</a:t>
            </a:fld>
          </a:p>
        </p:txBody>
      </p:sp>
      <p:sp>
        <p:nvSpPr>
          <p:cNvPr id="5" name="PlaceHolder 4"/>
          <p:cNvSpPr>
            <a:spLocks noGrp="1"/>
          </p:cNvSpPr>
          <p:nvPr>
            <p:ph type="dt" idx="4"/>
          </p:nvPr>
        </p:nvSpPr>
        <p:spPr/>
        <p:txBody>
          <a:bodyPr/>
          <a:p>
            <a:fld id="{C04CD4AB-C3AC-49C5-9F00-4864CD8B68E2}"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D97DBD46-A147-43BD-936B-945F07424991}" type="slidenum">
              <a:t>44</a:t>
            </a:fld>
          </a:p>
        </p:txBody>
      </p:sp>
      <p:sp>
        <p:nvSpPr>
          <p:cNvPr id="5" name="PlaceHolder 4"/>
          <p:cNvSpPr>
            <a:spLocks noGrp="1"/>
          </p:cNvSpPr>
          <p:nvPr>
            <p:ph type="dt" idx="4"/>
          </p:nvPr>
        </p:nvSpPr>
        <p:spPr/>
        <p:txBody>
          <a:bodyPr/>
          <a:p>
            <a:fld id="{99D616E9-29B3-4673-A853-6109B2D0DB79}"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D109E6B5-E216-4172-91E2-74C559A011A2}" type="slidenum">
              <a:t>45</a:t>
            </a:fld>
          </a:p>
        </p:txBody>
      </p:sp>
      <p:sp>
        <p:nvSpPr>
          <p:cNvPr id="4" name="PlaceHolder 3"/>
          <p:cNvSpPr>
            <a:spLocks noGrp="1"/>
          </p:cNvSpPr>
          <p:nvPr>
            <p:ph type="dt" idx="4"/>
          </p:nvPr>
        </p:nvSpPr>
        <p:spPr/>
        <p:txBody>
          <a:bodyPr/>
          <a:p>
            <a:fld id="{4FE01B46-BB7C-4436-879B-A33D83A521EA}"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DFA066B4-6928-46EB-A918-EB4406B63309}" type="slidenum">
              <a:t>46</a:t>
            </a:fld>
          </a:p>
        </p:txBody>
      </p:sp>
      <p:sp>
        <p:nvSpPr>
          <p:cNvPr id="5" name="PlaceHolder 4"/>
          <p:cNvSpPr>
            <a:spLocks noGrp="1"/>
          </p:cNvSpPr>
          <p:nvPr>
            <p:ph type="dt" idx="4"/>
          </p:nvPr>
        </p:nvSpPr>
        <p:spPr/>
        <p:txBody>
          <a:bodyPr/>
          <a:p>
            <a:fld id="{D08C2AA2-5583-4AA1-B3DF-DE85D964F340}"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20F2-BA9D-4473-94E9-CA5AF2333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B450-B542-4D62-907D-7B7CE60EC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B8E5BEED-62CB-49EC-B10A-1E57DFE3C24C}" type="slidenum">
              <a:t>47</a:t>
            </a:fld>
          </a:p>
        </p:txBody>
      </p:sp>
      <p:sp>
        <p:nvSpPr>
          <p:cNvPr id="4" name="PlaceHolder 3"/>
          <p:cNvSpPr>
            <a:spLocks noGrp="1"/>
          </p:cNvSpPr>
          <p:nvPr>
            <p:ph type="dt" idx="4"/>
          </p:nvPr>
        </p:nvSpPr>
        <p:spPr/>
        <p:txBody>
          <a:bodyPr/>
          <a:p>
            <a:fld id="{B47AB84E-9AD2-48B1-9062-D644751D9933}"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643EB6BF-F3E0-463E-8824-9FFC261D3599}" type="slidenum">
              <a:t>48</a:t>
            </a:fld>
          </a:p>
        </p:txBody>
      </p:sp>
      <p:sp>
        <p:nvSpPr>
          <p:cNvPr id="5" name="PlaceHolder 4"/>
          <p:cNvSpPr>
            <a:spLocks noGrp="1"/>
          </p:cNvSpPr>
          <p:nvPr>
            <p:ph type="dt" idx="4"/>
          </p:nvPr>
        </p:nvSpPr>
        <p:spPr/>
        <p:txBody>
          <a:bodyPr/>
          <a:p>
            <a:fld id="{2D1E9A73-8406-4B33-9E76-082DDE0DE7DA}"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F8D7FC81-9CB4-4DC6-8541-A8D6DCB24D8C}" type="slidenum">
              <a:t>49</a:t>
            </a:fld>
          </a:p>
        </p:txBody>
      </p:sp>
      <p:sp>
        <p:nvSpPr>
          <p:cNvPr id="5" name="PlaceHolder 4"/>
          <p:cNvSpPr>
            <a:spLocks noGrp="1"/>
          </p:cNvSpPr>
          <p:nvPr>
            <p:ph type="dt" idx="4"/>
          </p:nvPr>
        </p:nvSpPr>
        <p:spPr/>
        <p:txBody>
          <a:bodyPr/>
          <a:p>
            <a:fld id="{3B80A4B2-1568-4315-A3DC-232BF0BA444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CC0121-B45E-4E01-AAF7-0A59326AE595}" type="slidenum">
              <a:t>5</a:t>
            </a:fld>
          </a:p>
        </p:txBody>
      </p:sp>
      <p:sp>
        <p:nvSpPr>
          <p:cNvPr id="5" name="PlaceHolder 4"/>
          <p:cNvSpPr>
            <a:spLocks noGrp="1"/>
          </p:cNvSpPr>
          <p:nvPr>
            <p:ph type="dt" idx="1"/>
          </p:nvPr>
        </p:nvSpPr>
        <p:spPr/>
        <p:txBody>
          <a:bodyPr/>
          <a:p>
            <a:fld id="{3F1515EA-BF51-4803-8F85-E0B663561092}"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DC55D156-8458-4ECD-B204-8A205EA4CD65}" type="slidenum">
              <a:t>50</a:t>
            </a:fld>
          </a:p>
        </p:txBody>
      </p:sp>
      <p:sp>
        <p:nvSpPr>
          <p:cNvPr id="5" name="PlaceHolder 4"/>
          <p:cNvSpPr>
            <a:spLocks noGrp="1"/>
          </p:cNvSpPr>
          <p:nvPr>
            <p:ph type="dt" idx="4"/>
          </p:nvPr>
        </p:nvSpPr>
        <p:spPr/>
        <p:txBody>
          <a:bodyPr/>
          <a:p>
            <a:fld id="{9400BBE9-0BBF-44F0-96AE-595CC883461D}"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852B821-E1D8-41F6-934B-54891D3DC6C0}" type="slidenum">
              <a:t>51</a:t>
            </a:fld>
          </a:p>
        </p:txBody>
      </p:sp>
      <p:sp>
        <p:nvSpPr>
          <p:cNvPr id="5" name="PlaceHolder 4"/>
          <p:cNvSpPr>
            <a:spLocks noGrp="1"/>
          </p:cNvSpPr>
          <p:nvPr>
            <p:ph type="dt" idx="4"/>
          </p:nvPr>
        </p:nvSpPr>
        <p:spPr/>
        <p:txBody>
          <a:bodyPr/>
          <a:p>
            <a:fld id="{B6F81D70-BF43-4D6E-80CB-1D5942EFDBBB}"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D5171F1-A1AF-4003-82BF-A199DFF49360}" type="slidenum">
              <a:t>52</a:t>
            </a:fld>
          </a:p>
        </p:txBody>
      </p:sp>
      <p:sp>
        <p:nvSpPr>
          <p:cNvPr id="5" name="PlaceHolder 4"/>
          <p:cNvSpPr>
            <a:spLocks noGrp="1"/>
          </p:cNvSpPr>
          <p:nvPr>
            <p:ph type="dt" idx="4"/>
          </p:nvPr>
        </p:nvSpPr>
        <p:spPr/>
        <p:txBody>
          <a:bodyPr/>
          <a:p>
            <a:fld id="{21FA4C21-E435-4D9E-96DC-1A252BDA74D9}"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94581886-CACA-4C64-9935-8AB507A18987}" type="slidenum">
              <a:t>53</a:t>
            </a:fld>
          </a:p>
        </p:txBody>
      </p:sp>
      <p:sp>
        <p:nvSpPr>
          <p:cNvPr id="5" name="PlaceHolder 4"/>
          <p:cNvSpPr>
            <a:spLocks noGrp="1"/>
          </p:cNvSpPr>
          <p:nvPr>
            <p:ph type="dt" idx="4"/>
          </p:nvPr>
        </p:nvSpPr>
        <p:spPr/>
        <p:txBody>
          <a:bodyPr/>
          <a:p>
            <a:fld id="{145DD50A-C1EA-4224-BE45-E66BE6F28D9F}"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04781D48-DDD0-47C1-B26E-BAF97626A4ED}" type="slidenum">
              <a:t>54</a:t>
            </a:fld>
          </a:p>
        </p:txBody>
      </p:sp>
      <p:sp>
        <p:nvSpPr>
          <p:cNvPr id="5" name="PlaceHolder 4"/>
          <p:cNvSpPr>
            <a:spLocks noGrp="1"/>
          </p:cNvSpPr>
          <p:nvPr>
            <p:ph type="dt" idx="4"/>
          </p:nvPr>
        </p:nvSpPr>
        <p:spPr/>
        <p:txBody>
          <a:bodyPr/>
          <a:p>
            <a:fld id="{C9757753-9223-4AE2-9BCD-E151361F439C}"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C6ED1A5F-12CB-4962-B8CF-AA2E018B700D}" type="slidenum">
              <a:t>55</a:t>
            </a:fld>
          </a:p>
        </p:txBody>
      </p:sp>
      <p:sp>
        <p:nvSpPr>
          <p:cNvPr id="5" name="PlaceHolder 4"/>
          <p:cNvSpPr>
            <a:spLocks noGrp="1"/>
          </p:cNvSpPr>
          <p:nvPr>
            <p:ph type="dt" idx="4"/>
          </p:nvPr>
        </p:nvSpPr>
        <p:spPr/>
        <p:txBody>
          <a:bodyPr/>
          <a:p>
            <a:fld id="{1F4ED8B7-740D-4F3D-9C1F-72C6A01652FB}"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7A8A67D7-3DA8-441A-8B9F-6295B62CA1B7}" type="slidenum">
              <a:t>56</a:t>
            </a:fld>
          </a:p>
        </p:txBody>
      </p:sp>
      <p:sp>
        <p:nvSpPr>
          <p:cNvPr id="5" name="PlaceHolder 4"/>
          <p:cNvSpPr>
            <a:spLocks noGrp="1"/>
          </p:cNvSpPr>
          <p:nvPr>
            <p:ph type="dt" idx="4"/>
          </p:nvPr>
        </p:nvSpPr>
        <p:spPr/>
        <p:txBody>
          <a:bodyPr/>
          <a:p>
            <a:fld id="{2C456019-F58D-4AFF-A48B-592FD37B2A2F}"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00840F92-0D37-476E-AC8C-3FF73157719E}" type="slidenum">
              <a:t>57</a:t>
            </a:fld>
          </a:p>
        </p:txBody>
      </p:sp>
      <p:sp>
        <p:nvSpPr>
          <p:cNvPr id="5" name="PlaceHolder 4"/>
          <p:cNvSpPr>
            <a:spLocks noGrp="1"/>
          </p:cNvSpPr>
          <p:nvPr>
            <p:ph type="dt" idx="4"/>
          </p:nvPr>
        </p:nvSpPr>
        <p:spPr/>
        <p:txBody>
          <a:bodyPr/>
          <a:p>
            <a:fld id="{2887BDBB-F78F-4ECB-A44E-E689ACACBB5A}"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539F652-0E0E-460F-B074-4FB0213C59A4}" type="slidenum">
              <a:t>58</a:t>
            </a:fld>
          </a:p>
        </p:txBody>
      </p:sp>
      <p:sp>
        <p:nvSpPr>
          <p:cNvPr id="3" name="PlaceHolder 2"/>
          <p:cNvSpPr>
            <a:spLocks noGrp="1"/>
          </p:cNvSpPr>
          <p:nvPr>
            <p:ph type="dt" idx="4"/>
          </p:nvPr>
        </p:nvSpPr>
        <p:spPr/>
        <p:txBody>
          <a:bodyPr/>
          <a:p>
            <a:fld id="{2FACBB93-F220-497B-90BB-18E384C27CAF}"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DD29722E-48D1-4EB5-A568-27CEA991EAE6}" type="slidenum">
              <a:t>59</a:t>
            </a:fld>
          </a:p>
        </p:txBody>
      </p:sp>
      <p:sp>
        <p:nvSpPr>
          <p:cNvPr id="5" name="PlaceHolder 4"/>
          <p:cNvSpPr>
            <a:spLocks noGrp="1"/>
          </p:cNvSpPr>
          <p:nvPr>
            <p:ph type="dt" idx="4"/>
          </p:nvPr>
        </p:nvSpPr>
        <p:spPr/>
        <p:txBody>
          <a:bodyPr/>
          <a:p>
            <a:fld id="{C4103EB2-A055-404B-821B-D9C7C56D6BF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59683D6-073B-4547-B809-EA8B225BB0C5}" type="slidenum">
              <a:t>6</a:t>
            </a:fld>
          </a:p>
        </p:txBody>
      </p:sp>
      <p:sp>
        <p:nvSpPr>
          <p:cNvPr id="3" name="PlaceHolder 2"/>
          <p:cNvSpPr>
            <a:spLocks noGrp="1"/>
          </p:cNvSpPr>
          <p:nvPr>
            <p:ph type="dt" idx="1"/>
          </p:nvPr>
        </p:nvSpPr>
        <p:spPr/>
        <p:txBody>
          <a:bodyPr/>
          <a:p>
            <a:fld id="{CBC0579F-FDF3-480B-B59C-FFF310C5263E}"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BB258AE2-01C7-44FA-A76C-8530A9EB7F76}" type="slidenum">
              <a:t>60</a:t>
            </a:fld>
          </a:p>
        </p:txBody>
      </p:sp>
      <p:sp>
        <p:nvSpPr>
          <p:cNvPr id="4" name="PlaceHolder 3"/>
          <p:cNvSpPr>
            <a:spLocks noGrp="1"/>
          </p:cNvSpPr>
          <p:nvPr>
            <p:ph type="dt" idx="4"/>
          </p:nvPr>
        </p:nvSpPr>
        <p:spPr/>
        <p:txBody>
          <a:bodyPr/>
          <a:p>
            <a:fld id="{54F5315C-0E71-43A0-BF38-B180FDC38076}"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E04BD14B-EB62-4A85-B470-535BC88E468D}" type="slidenum">
              <a:t>61</a:t>
            </a:fld>
          </a:p>
        </p:txBody>
      </p:sp>
      <p:sp>
        <p:nvSpPr>
          <p:cNvPr id="4" name="PlaceHolder 3"/>
          <p:cNvSpPr>
            <a:spLocks noGrp="1"/>
          </p:cNvSpPr>
          <p:nvPr>
            <p:ph type="dt" idx="1"/>
          </p:nvPr>
        </p:nvSpPr>
        <p:spPr/>
        <p:txBody>
          <a:bodyPr/>
          <a:p>
            <a:fld id="{094661B3-3316-412D-BE93-28D28AB7A65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50E8737-0AFD-4787-A33C-6E302E03EAF3}" type="slidenum">
              <a:t>7</a:t>
            </a:fld>
          </a:p>
        </p:txBody>
      </p:sp>
      <p:sp>
        <p:nvSpPr>
          <p:cNvPr id="4" name="PlaceHolder 3"/>
          <p:cNvSpPr>
            <a:spLocks noGrp="1"/>
          </p:cNvSpPr>
          <p:nvPr>
            <p:ph type="dt" idx="1"/>
          </p:nvPr>
        </p:nvSpPr>
        <p:spPr/>
        <p:txBody>
          <a:bodyPr/>
          <a:p>
            <a:fld id="{A38487D0-C6BE-4FCA-A349-FD22FA3633C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9348D45-826A-4AB8-A3DF-59D164FBD318}" type="slidenum">
              <a:t>8</a:t>
            </a:fld>
          </a:p>
        </p:txBody>
      </p:sp>
      <p:sp>
        <p:nvSpPr>
          <p:cNvPr id="4" name="PlaceHolder 3"/>
          <p:cNvSpPr>
            <a:spLocks noGrp="1"/>
          </p:cNvSpPr>
          <p:nvPr>
            <p:ph type="dt" idx="1"/>
          </p:nvPr>
        </p:nvSpPr>
        <p:spPr/>
        <p:txBody>
          <a:bodyPr/>
          <a:p>
            <a:fld id="{EE459859-BAA1-42E9-8D04-4C463B5DA4E8}"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8EFBA9-DAD1-434D-AD57-7719FD699035}" type="slidenum">
              <a:t>9</a:t>
            </a:fld>
          </a:p>
        </p:txBody>
      </p:sp>
      <p:sp>
        <p:nvSpPr>
          <p:cNvPr id="5" name="PlaceHolder 4"/>
          <p:cNvSpPr>
            <a:spLocks noGrp="1"/>
          </p:cNvSpPr>
          <p:nvPr>
            <p:ph type="dt" idx="1"/>
          </p:nvPr>
        </p:nvSpPr>
        <p:spPr/>
        <p:txBody>
          <a:bodyPr/>
          <a:p>
            <a:fld id="{2158E95C-7681-424E-8BDC-55241986DEB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